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0490-C476-4AEF-8CA3-DB6B9EE3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8A2-D0BD-467E-901E-7453F1D2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287-E3B8-4F83-8BB2-0C904B817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B15E-0B07-4CA0-AC95-65197A5A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6E0F-1B48-4B1D-9BC8-4BF83D37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E191-3F30-4918-87EB-35056515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8916-C38D-43B0-AC63-E5903E39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BDFA-F4A8-4A15-A43F-3136FAC5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5AB0-3BD8-4C40-B52B-A04D6049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3488-5B41-4695-9618-5D8687FC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EBFB-4FE6-4512-94EA-7A50746E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E1D-22D0-4004-A947-51CD3E58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198A-9684-493D-B0D9-C7B03D6F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2B7A-CA68-4B1E-A811-063A08BC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1334-6FBF-48CD-9C7C-38EA1B56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FF6F-F0E5-447E-AA99-DFBB40F4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2D08-C61F-4842-B97A-E8F990A7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10A35-B434-43A5-AC9E-C4FB5687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0AFE1-506C-4770-B3E0-17D5A642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4134F-3A19-4A4E-B8C9-BE65D1CD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EA348-E9DF-40EA-9063-9A356492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5638E-9E58-4D34-80CE-42AA555C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946-A350-4A3D-929A-3CE3099C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BCAAA-EE92-4275-AB01-E35D2495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FD154-2C04-4BB5-9839-DB74C069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522C-15EA-4ECA-BF92-BEB7D9D9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CDEA5-D89D-432C-A845-B3B747A2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4DD9C-663C-4836-A67E-BB7709F3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D9385-772C-41BD-8E19-C2D70F84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239B9-8FD0-4238-994B-A2EA7C1A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74240-B02C-4A09-91C1-F08FC561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71EC9-4676-4AD2-AEE4-4057F54D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B7431-A6B0-4CAA-9A28-270165CC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E2B6-EE5D-4EB8-A42B-8CAC309E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A5F39-F59E-47F8-B830-D03DA2D3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F781A-3396-4287-91E9-A56A629D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641BF-60EF-4603-9BFC-CE4191B0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D591C-F833-4858-B913-9837EEC6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E9DC3-E078-46E3-AA9B-7CA9642D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AE957-4F8D-488F-B7C1-AFF608A2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A4927-0510-417C-A50A-5ED169B2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4BD21-30F6-4C74-8607-F7E41382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51074-EC65-47DD-9323-FDBB7467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64A67-C191-46EA-9E6D-09285249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748D-ADE6-46D1-AAD9-0022A769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22CFC-0231-49B7-B068-88B751B5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94167-BE46-4682-B1BD-A21FC6EE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AAC58-0032-4EFD-AC69-A2470BFA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514F1-B810-415A-8A9B-27D65E70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CD2CC-1C00-46FF-B1FA-D91208C1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9ACBB-16EE-4B95-A564-F7E9AE9D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45100-422B-4DBE-8393-616F7863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051B4-90E1-49F0-B88F-8846A9E4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22C52-8022-4FFA-A260-7C6874C7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C6DF1-317D-4231-8F32-C4BD484E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C1D5-6A36-4AE3-AC58-8E16181F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8F105-5F47-4A81-8A07-19370A9F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9063F4-0E62-4296-9EAC-579E3D8C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B1116E-817B-40AD-83A2-D22FB2C9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E79E0-B74C-4EAC-8E9D-CDCD25AF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BAB06-C241-4CB1-9081-77CA9BAE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3CFED0-F020-4922-8CCA-35BE95BC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67445E-B506-4CF8-893A-5ABBD976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91C0D1-A4ED-4318-8E15-8DC8FE73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6806A4-7510-4803-BB50-47B4B326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9DD124-95E7-4413-A897-7162E7DB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2597-3E46-4C38-B971-F0C32FAD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E9995A-1E90-424B-A909-5AF09740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26DF3D-32C5-49F6-8AF5-DDE80616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73D7C6-7096-42E9-8770-F45C93BF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899F-0268-4977-9988-F79C7D5A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F94-5B4F-4D5A-8FCF-7DF0AE0B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7671-CB3B-4E61-9C57-AEE93B23C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5BC4-7C2F-46AF-933C-5E4F78EE1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9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0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0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5CC9-7315-4C4E-8FAF-B1896C34182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7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7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8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3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7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9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14F1-F1E3-4E71-8C73-A1BBA591ABA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8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5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5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6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90C0-F3DD-492C-AC4E-129D0C36E0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09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13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5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2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57C8-6461-48DC-9AE3-4EEDE09C42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a.org/info/facts04/circulation-daily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Pre-Calculus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Analyzing  a Fun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Castellar"/>
              </a:rPr>
              <a:t>How to earn point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in a group of 3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your </a:t>
            </a:r>
            <a:r>
              <a:rPr b="0" lang="en-US" sz="4000" spc="-1" strike="noStrike">
                <a:solidFill>
                  <a:srgbClr val="ff3300"/>
                </a:solidFill>
                <a:latin typeface="Bodoni MT Black"/>
              </a:rPr>
              <a:t>pap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ou will need to address each of the 8 characteristics of your grap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Castellar"/>
              </a:rPr>
              <a:t>How to earn point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presentation must be typed, double spaced, 12 font, at least one page but no more than two pages.  (Use the 6 traits of writing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nal product is worth 40 points.  (2 points for each characteristic and 4 points per trait in the writing cont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3890880" y="2475000"/>
            <a:ext cx="13622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5.49133E-006 C 0.18368 0.09943 0.36736 0.19908 0.36024 0.23053 C 0.35312 0.26197 0.02725 0.19654 -0.04288 0.18821 E">
                                      <p:cBhvr>
                                        <p:cTn id="139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formation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function has many characteristic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3657600" y="2286000"/>
            <a:ext cx="4308480" cy="4308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acteristic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-decreasing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me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undedn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extrema,Maximums and/or minimu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ympto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Black"/>
              </a:rPr>
              <a:t>Your mission </a:t>
            </a:r>
            <a:br>
              <a:rPr sz="4000"/>
            </a:br>
            <a:r>
              <a:rPr b="0" i="1" lang="en-US" sz="3600" spc="-1" strike="noStrike">
                <a:solidFill>
                  <a:srgbClr val="ffffff"/>
                </a:solidFill>
                <a:latin typeface="Arial Black"/>
              </a:rPr>
              <a:t>(should you decide to accept it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Create a RAF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 – Real world ro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– Audi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 –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 --  Topic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Your  Role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ou are a mathematical analyst for your company.  It is your job to analyze the previous year’s production graph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Audience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board of direct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Format:  </a:t>
            </a:r>
            <a:br>
              <a:rPr sz="4400"/>
            </a:b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Presentation Pape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prepare a presentation paper to the board of directors which addresses the company’s performance by using a model (graph) of the compan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98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98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pic:  Graph Analysi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locating your company’s graph on the internet, in a newspaper or in a magazi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Address each of the 8 characteristics of the grap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Based on the graph explain the company’s past performanc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Prepare a paper presentation of your findin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 of a company graph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Newspa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" descr="Questar Corp. (STR)"/>
          <p:cNvPicPr/>
          <p:nvPr/>
        </p:nvPicPr>
        <p:blipFill>
          <a:blip r:embed="rId2"/>
          <a:stretch/>
        </p:blipFill>
        <p:spPr>
          <a:xfrm>
            <a:off x="2743200" y="3124080"/>
            <a:ext cx="6095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2:39:59Z</dcterms:created>
  <dc:creator>Rebecca Wells</dc:creator>
  <dc:description/>
  <dc:language>en-US</dc:language>
  <cp:lastModifiedBy>Rebecca Wells</cp:lastModifiedBy>
  <dcterms:modified xsi:type="dcterms:W3CDTF">2007-09-20T21:23:04Z</dcterms:modified>
  <cp:revision>8</cp:revision>
  <dc:subject/>
  <dc:title>Pre-Calculus </dc:title>
</cp:coreProperties>
</file>